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591-7434-4994-809B-B31D66BA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CEB-979B-44FF-AFE0-40432302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D97-7B55-47ED-B2F7-1B195CE0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FBC-8B0F-4698-9B08-E627026F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BA7-4E62-4AA2-9621-525520AE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10B-BDDE-47BB-8410-E8F6CABF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EBB-4A63-4A28-B201-4EAD0193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A66-21C0-411D-93D7-C4AE9B6A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840-0F66-484B-BDD9-D485306E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702-09E9-4B11-A96C-CA6B979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739-6E87-4376-BD0E-4C3AD75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BC4-D0DC-4FB6-A452-FD76AD6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E55D-89BA-4FD8-B64B-B8F04B590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44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45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9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8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3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7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71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75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76920" y="173664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Who ……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81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82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86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0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6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600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101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115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124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133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142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3486240" y="2209680"/>
            <a:ext cx="1314360" cy="16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161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162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166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170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175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180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184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188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192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876920" y="15238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ou grandp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198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199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213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218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219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241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259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3486240" y="2209680"/>
            <a:ext cx="1314360" cy="16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278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279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283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287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292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297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301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305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309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76920" y="160020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I …… Maya’s bro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315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316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324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30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1432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534200" y="2880360"/>
            <a:ext cx="4083840" cy="3749040"/>
            <a:chOff x="4534200" y="2880360"/>
            <a:chExt cx="4083840" cy="3749040"/>
          </a:xfrm>
        </p:grpSpPr>
        <p:grpSp>
          <p:nvGrpSpPr>
            <p:cNvPr id="335" name=""/>
            <p:cNvGrpSpPr/>
            <p:nvPr/>
          </p:nvGrpSpPr>
          <p:grpSpPr>
            <a:xfrm>
              <a:off x="4940280" y="3070080"/>
              <a:ext cx="3677760" cy="2539800"/>
              <a:chOff x="4940280" y="3070080"/>
              <a:chExt cx="3677760" cy="2539800"/>
            </a:xfrm>
          </p:grpSpPr>
          <p:sp>
            <p:nvSpPr>
              <p:cNvPr id="336" name=""/>
              <p:cNvSpPr/>
              <p:nvPr/>
            </p:nvSpPr>
            <p:spPr>
              <a:xfrm>
                <a:off x="4940280" y="424584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542280" y="45993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26080" y="307008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5056920" y="3141000"/>
                <a:ext cx="266040" cy="898200"/>
                <a:chOff x="5056920" y="3141000"/>
                <a:chExt cx="266040" cy="8982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123520" y="3407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56920" y="327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23520" y="31410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56920" y="35409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12352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224320" y="3607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256360" y="3807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290920" y="4007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7903440" y="3421080"/>
                <a:ext cx="531000" cy="783360"/>
                <a:chOff x="7903440" y="3421080"/>
                <a:chExt cx="531000" cy="783360"/>
              </a:xfrm>
            </p:grpSpPr>
            <p:sp>
              <p:nvSpPr>
                <p:cNvPr id="349" name=""/>
                <p:cNvSpPr/>
                <p:nvPr/>
              </p:nvSpPr>
              <p:spPr>
                <a:xfrm flipH="1" rot="1320000">
                  <a:off x="8287200" y="3673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rot="1320000">
                  <a:off x="8398080" y="357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rot="1320000">
                  <a:off x="8386560" y="3425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rot="1320000">
                  <a:off x="8297640" y="3821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rot="1320000">
                  <a:off x="8187120" y="3920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1320000">
                  <a:off x="8119800" y="3821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rot="1320000">
                  <a:off x="8015400" y="3995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rot="1320000">
                  <a:off x="7907760" y="416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045400" y="4775760"/>
                <a:ext cx="829080" cy="451440"/>
                <a:chOff x="5045400" y="4775760"/>
                <a:chExt cx="829080" cy="451440"/>
              </a:xfrm>
            </p:grpSpPr>
            <p:sp>
              <p:nvSpPr>
                <p:cNvPr id="358" name=""/>
                <p:cNvSpPr/>
                <p:nvPr/>
              </p:nvSpPr>
              <p:spPr>
                <a:xfrm rot="18501600">
                  <a:off x="5260680" y="4947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8501600">
                  <a:off x="5114880" y="4916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8501600">
                  <a:off x="5051880" y="47818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8501600">
                  <a:off x="5324400" y="50824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8501600">
                  <a:off x="5470200" y="5113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18501600">
                  <a:off x="5481000" y="4992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8501600">
                  <a:off x="5657400" y="5091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8501600">
                  <a:off x="5835960" y="5188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164360" y="5194080"/>
                <a:ext cx="892800" cy="294480"/>
                <a:chOff x="7164360" y="5194080"/>
                <a:chExt cx="892800" cy="294480"/>
              </a:xfrm>
            </p:grpSpPr>
            <p:sp>
              <p:nvSpPr>
                <p:cNvPr id="367" name=""/>
                <p:cNvSpPr/>
                <p:nvPr/>
              </p:nvSpPr>
              <p:spPr>
                <a:xfrm flipH="1" rot="5538600">
                  <a:off x="7758000" y="53848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5538600">
                  <a:off x="7888680" y="54561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rot="5538600">
                  <a:off x="8024040" y="53956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5538600">
                  <a:off x="7621560" y="5445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rot="5538600">
                  <a:off x="7491600" y="5374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rot="5538600">
                  <a:off x="7562160" y="52765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rot="5538600">
                  <a:off x="7363800" y="5237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5538600">
                  <a:off x="7164720" y="5194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180920" y="4294800"/>
                <a:ext cx="866880" cy="381600"/>
                <a:chOff x="7180920" y="4294800"/>
                <a:chExt cx="866880" cy="381600"/>
              </a:xfrm>
            </p:grpSpPr>
            <p:sp>
              <p:nvSpPr>
                <p:cNvPr id="376" name=""/>
                <p:cNvSpPr/>
                <p:nvPr/>
              </p:nvSpPr>
              <p:spPr>
                <a:xfrm rot="4866600">
                  <a:off x="7750080" y="4383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4866600">
                  <a:off x="7871400" y="42969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4866600">
                  <a:off x="8013240" y="43416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4866600">
                  <a:off x="7607880" y="4337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4866600">
                  <a:off x="7486560" y="4424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4866600">
                  <a:off x="7568280" y="4514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4866600">
                  <a:off x="7375680" y="45766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4866600">
                  <a:off x="7182720" y="4641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 flipH="1" rot="867000">
              <a:off x="4724280" y="312516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5334120" y="302904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>
            <a:off x="3486240" y="2209680"/>
            <a:ext cx="1314360" cy="16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" dur="25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2971800" y="10476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395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396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00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404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409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414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418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422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426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876920" y="137160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I …… Maya’s grandfa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432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433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437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441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47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1219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534200" y="2804040"/>
            <a:ext cx="4083840" cy="3749040"/>
            <a:chOff x="4534200" y="2804040"/>
            <a:chExt cx="4083840" cy="3749040"/>
          </a:xfrm>
        </p:grpSpPr>
        <p:grpSp>
          <p:nvGrpSpPr>
            <p:cNvPr id="452" name=""/>
            <p:cNvGrpSpPr/>
            <p:nvPr/>
          </p:nvGrpSpPr>
          <p:grpSpPr>
            <a:xfrm>
              <a:off x="4940280" y="2993760"/>
              <a:ext cx="3677760" cy="2539800"/>
              <a:chOff x="4940280" y="2993760"/>
              <a:chExt cx="3677760" cy="2539800"/>
            </a:xfrm>
          </p:grpSpPr>
          <p:sp>
            <p:nvSpPr>
              <p:cNvPr id="453" name=""/>
              <p:cNvSpPr/>
              <p:nvPr/>
            </p:nvSpPr>
            <p:spPr>
              <a:xfrm>
                <a:off x="4940280" y="416952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42280" y="452304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26080" y="299376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5056920" y="3064680"/>
                <a:ext cx="266040" cy="898200"/>
                <a:chOff x="5056920" y="3064680"/>
                <a:chExt cx="266040" cy="898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123520" y="33314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056920" y="3197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123520" y="30646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056920" y="3464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123520" y="3598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24320" y="3531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256360" y="3731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290920" y="3931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7903440" y="3344760"/>
                <a:ext cx="531000" cy="783360"/>
                <a:chOff x="7903440" y="3344760"/>
                <a:chExt cx="531000" cy="783360"/>
              </a:xfrm>
            </p:grpSpPr>
            <p:sp>
              <p:nvSpPr>
                <p:cNvPr id="466" name=""/>
                <p:cNvSpPr/>
                <p:nvPr/>
              </p:nvSpPr>
              <p:spPr>
                <a:xfrm flipH="1" rot="1320000">
                  <a:off x="8287200" y="3596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 rot="1320000">
                  <a:off x="8398080" y="34981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1320000">
                  <a:off x="8386560" y="3349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320000">
                  <a:off x="8297640" y="3745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rot="1320000">
                  <a:off x="8187120" y="384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rot="1320000">
                  <a:off x="8119800" y="3745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rot="1320000">
                  <a:off x="8015400" y="3918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rot="1320000">
                  <a:off x="7907760" y="4091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045400" y="4699440"/>
                <a:ext cx="829080" cy="451440"/>
                <a:chOff x="5045400" y="4699440"/>
                <a:chExt cx="829080" cy="451440"/>
              </a:xfrm>
            </p:grpSpPr>
            <p:sp>
              <p:nvSpPr>
                <p:cNvPr id="475" name=""/>
                <p:cNvSpPr/>
                <p:nvPr/>
              </p:nvSpPr>
              <p:spPr>
                <a:xfrm rot="18501600">
                  <a:off x="5260680" y="4871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18501600">
                  <a:off x="5114880" y="4840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8501600">
                  <a:off x="5051880" y="4705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18501600">
                  <a:off x="5324400" y="5006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18501600">
                  <a:off x="5470200" y="5036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8501600">
                  <a:off x="5481000" y="4915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8501600">
                  <a:off x="5657400" y="5015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8501600">
                  <a:off x="5835960" y="5112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164360" y="5117760"/>
                <a:ext cx="892800" cy="294480"/>
                <a:chOff x="7164360" y="5117760"/>
                <a:chExt cx="892800" cy="294480"/>
              </a:xfrm>
            </p:grpSpPr>
            <p:sp>
              <p:nvSpPr>
                <p:cNvPr id="484" name=""/>
                <p:cNvSpPr/>
                <p:nvPr/>
              </p:nvSpPr>
              <p:spPr>
                <a:xfrm flipH="1" rot="5538600">
                  <a:off x="7758000" y="530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rot="5538600">
                  <a:off x="7888680" y="53798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5538600">
                  <a:off x="8024040" y="5319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rot="5538600">
                  <a:off x="7621560" y="53690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5538600">
                  <a:off x="7491600" y="5297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rot="5538600">
                  <a:off x="7562160" y="52002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rot="5538600">
                  <a:off x="7363800" y="5160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rot="5538600">
                  <a:off x="7164720" y="5118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180920" y="4218480"/>
                <a:ext cx="866880" cy="381600"/>
                <a:chOff x="7180920" y="4218480"/>
                <a:chExt cx="866880" cy="381600"/>
              </a:xfrm>
            </p:grpSpPr>
            <p:sp>
              <p:nvSpPr>
                <p:cNvPr id="493" name=""/>
                <p:cNvSpPr/>
                <p:nvPr/>
              </p:nvSpPr>
              <p:spPr>
                <a:xfrm rot="4866600">
                  <a:off x="7750080" y="4307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4866600">
                  <a:off x="7871400" y="4220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4866600">
                  <a:off x="8013240" y="4265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4866600">
                  <a:off x="7607880" y="4261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4866600">
                  <a:off x="7486560" y="434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4866600">
                  <a:off x="7568280" y="443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4866600">
                  <a:off x="7375680" y="4500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4866600">
                  <a:off x="7182720" y="4565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 flipH="1" rot="867000">
              <a:off x="4724280" y="304884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5"/>
            <a:stretch/>
          </p:blipFill>
          <p:spPr>
            <a:xfrm>
              <a:off x="5334120" y="295272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3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2990880" y="2333520"/>
            <a:ext cx="1657440" cy="155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50" autoRev="1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" dur="250" autoRev="1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2971800" y="10476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512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513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517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21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26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531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535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539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543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572000" y="15238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She …… Maya’s grandmo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549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550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554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64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95880" y="1371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534200" y="2804040"/>
            <a:ext cx="4083840" cy="3749040"/>
            <a:chOff x="4534200" y="2804040"/>
            <a:chExt cx="4083840" cy="3749040"/>
          </a:xfrm>
        </p:grpSpPr>
        <p:grpSp>
          <p:nvGrpSpPr>
            <p:cNvPr id="569" name=""/>
            <p:cNvGrpSpPr/>
            <p:nvPr/>
          </p:nvGrpSpPr>
          <p:grpSpPr>
            <a:xfrm>
              <a:off x="4940280" y="2993760"/>
              <a:ext cx="3677760" cy="2539800"/>
              <a:chOff x="4940280" y="2993760"/>
              <a:chExt cx="3677760" cy="2539800"/>
            </a:xfrm>
          </p:grpSpPr>
          <p:sp>
            <p:nvSpPr>
              <p:cNvPr id="570" name=""/>
              <p:cNvSpPr/>
              <p:nvPr/>
            </p:nvSpPr>
            <p:spPr>
              <a:xfrm>
                <a:off x="4940280" y="416952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542280" y="452304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26080" y="299376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5056920" y="3064680"/>
                <a:ext cx="266040" cy="898200"/>
                <a:chOff x="5056920" y="3064680"/>
                <a:chExt cx="266040" cy="8982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123520" y="33314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056920" y="3197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123520" y="30646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056920" y="3464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123520" y="3598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24320" y="3531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256360" y="3731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290920" y="3931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7903440" y="3344760"/>
                <a:ext cx="531000" cy="783360"/>
                <a:chOff x="7903440" y="3344760"/>
                <a:chExt cx="531000" cy="783360"/>
              </a:xfrm>
            </p:grpSpPr>
            <p:sp>
              <p:nvSpPr>
                <p:cNvPr id="583" name=""/>
                <p:cNvSpPr/>
                <p:nvPr/>
              </p:nvSpPr>
              <p:spPr>
                <a:xfrm flipH="1" rot="1320000">
                  <a:off x="8287200" y="3596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 rot="1320000">
                  <a:off x="8398080" y="34981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rot="1320000">
                  <a:off x="8386560" y="3349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rot="1320000">
                  <a:off x="8297640" y="3745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 rot="1320000">
                  <a:off x="8187120" y="384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rot="1320000">
                  <a:off x="8119800" y="3745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rot="1320000">
                  <a:off x="8015400" y="3918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rot="1320000">
                  <a:off x="7907760" y="4091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5045400" y="4699440"/>
                <a:ext cx="829080" cy="451440"/>
                <a:chOff x="5045400" y="4699440"/>
                <a:chExt cx="829080" cy="451440"/>
              </a:xfrm>
            </p:grpSpPr>
            <p:sp>
              <p:nvSpPr>
                <p:cNvPr id="592" name=""/>
                <p:cNvSpPr/>
                <p:nvPr/>
              </p:nvSpPr>
              <p:spPr>
                <a:xfrm rot="18501600">
                  <a:off x="5260680" y="4871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8501600">
                  <a:off x="5114880" y="4840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8501600">
                  <a:off x="5051880" y="4705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8501600">
                  <a:off x="5324400" y="5006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18501600">
                  <a:off x="5470200" y="5036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18501600">
                  <a:off x="5481000" y="4915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8501600">
                  <a:off x="5657400" y="5015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8501600">
                  <a:off x="5835960" y="5112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164360" y="5117760"/>
                <a:ext cx="892800" cy="294480"/>
                <a:chOff x="7164360" y="5117760"/>
                <a:chExt cx="892800" cy="2944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rot="5538600">
                  <a:off x="7758000" y="530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rot="5538600">
                  <a:off x="7888680" y="53798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rot="5538600">
                  <a:off x="8024040" y="5319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rot="5538600">
                  <a:off x="7621560" y="53690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 rot="5538600">
                  <a:off x="7491600" y="5297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 rot="5538600">
                  <a:off x="7562160" y="52002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rot="5538600">
                  <a:off x="7363800" y="5160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rot="5538600">
                  <a:off x="7164720" y="5118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180920" y="4218480"/>
                <a:ext cx="866880" cy="381600"/>
                <a:chOff x="7180920" y="4218480"/>
                <a:chExt cx="866880" cy="381600"/>
              </a:xfrm>
            </p:grpSpPr>
            <p:sp>
              <p:nvSpPr>
                <p:cNvPr id="610" name=""/>
                <p:cNvSpPr/>
                <p:nvPr/>
              </p:nvSpPr>
              <p:spPr>
                <a:xfrm rot="4866600">
                  <a:off x="7750080" y="4307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4866600">
                  <a:off x="7871400" y="4220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4866600">
                  <a:off x="8013240" y="4265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4866600">
                  <a:off x="7607880" y="4261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4866600">
                  <a:off x="7486560" y="434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4866600">
                  <a:off x="7568280" y="443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4866600">
                  <a:off x="7375680" y="4500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4866600">
                  <a:off x="7182720" y="4565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 flipH="1" rot="867000">
              <a:off x="4724280" y="304884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" descr=""/>
            <p:cNvPicPr/>
            <p:nvPr/>
          </p:nvPicPr>
          <p:blipFill>
            <a:blip r:embed="rId5"/>
            <a:stretch/>
          </p:blipFill>
          <p:spPr>
            <a:xfrm>
              <a:off x="5334120" y="295272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0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1"/>
          <a:stretch/>
        </p:blipFill>
        <p:spPr>
          <a:xfrm>
            <a:off x="3352680" y="231444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" dur="250" autoRev="1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5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" dur="25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" dur="25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76320" y="1295280"/>
            <a:ext cx="4647960" cy="372456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628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629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633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637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8845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643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48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52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656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660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572000" y="173664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They …… Maya’s paren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666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667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671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675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681" name=""/>
          <p:cNvSpPr/>
          <p:nvPr/>
        </p:nvSpPr>
        <p:spPr>
          <a:xfrm rot="601200">
            <a:off x="3428640" y="2590560"/>
            <a:ext cx="1066680" cy="12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601200">
            <a:off x="380520" y="2438280"/>
            <a:ext cx="106704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19920" y="1600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534200" y="2956680"/>
            <a:ext cx="4083840" cy="3749040"/>
            <a:chOff x="4534200" y="2956680"/>
            <a:chExt cx="4083840" cy="3749040"/>
          </a:xfrm>
        </p:grpSpPr>
        <p:grpSp>
          <p:nvGrpSpPr>
            <p:cNvPr id="687" name=""/>
            <p:cNvGrpSpPr/>
            <p:nvPr/>
          </p:nvGrpSpPr>
          <p:grpSpPr>
            <a:xfrm>
              <a:off x="4940280" y="3146400"/>
              <a:ext cx="3677760" cy="2539800"/>
              <a:chOff x="4940280" y="3146400"/>
              <a:chExt cx="3677760" cy="2539800"/>
            </a:xfrm>
          </p:grpSpPr>
          <p:sp>
            <p:nvSpPr>
              <p:cNvPr id="688" name=""/>
              <p:cNvSpPr/>
              <p:nvPr/>
            </p:nvSpPr>
            <p:spPr>
              <a:xfrm>
                <a:off x="4940280" y="432252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542280" y="467568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526080" y="314640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5056920" y="3217320"/>
                <a:ext cx="266040" cy="898560"/>
                <a:chOff x="5056920" y="3217320"/>
                <a:chExt cx="266040" cy="8985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123520" y="3484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056920" y="3350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123520" y="3217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056920" y="3617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123520" y="3750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224320" y="3684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256360" y="38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290920" y="4084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903440" y="3497400"/>
                <a:ext cx="531360" cy="783720"/>
                <a:chOff x="7903440" y="3497400"/>
                <a:chExt cx="531360" cy="783720"/>
              </a:xfrm>
            </p:grpSpPr>
            <p:sp>
              <p:nvSpPr>
                <p:cNvPr id="701" name=""/>
                <p:cNvSpPr/>
                <p:nvPr/>
              </p:nvSpPr>
              <p:spPr>
                <a:xfrm flipH="1" rot="1320000">
                  <a:off x="8287200" y="3749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rot="1320000">
                  <a:off x="8398440" y="3650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rot="1320000">
                  <a:off x="8386560" y="3502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rot="1320000">
                  <a:off x="8297640" y="3898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 rot="1320000">
                  <a:off x="8187120" y="3997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 rot="1320000">
                  <a:off x="8119800" y="3898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 rot="1320000">
                  <a:off x="8015400" y="407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 rot="1320000">
                  <a:off x="7907760" y="4244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045400" y="4852440"/>
                <a:ext cx="829080" cy="451440"/>
                <a:chOff x="5045400" y="4852440"/>
                <a:chExt cx="829080" cy="451440"/>
              </a:xfrm>
            </p:grpSpPr>
            <p:sp>
              <p:nvSpPr>
                <p:cNvPr id="710" name=""/>
                <p:cNvSpPr/>
                <p:nvPr/>
              </p:nvSpPr>
              <p:spPr>
                <a:xfrm rot="18501600">
                  <a:off x="5260680" y="5024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18501600">
                  <a:off x="5114880" y="4993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18501600">
                  <a:off x="5051880" y="4858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18501600">
                  <a:off x="5324400" y="5159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18501600">
                  <a:off x="5470200" y="5189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18501600">
                  <a:off x="5481000" y="5068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rot="18501600">
                  <a:off x="5657400" y="5168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rot="18501600">
                  <a:off x="5835960" y="5265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164360" y="5271120"/>
                <a:ext cx="892800" cy="294840"/>
                <a:chOff x="7164360" y="5271120"/>
                <a:chExt cx="892800" cy="294840"/>
              </a:xfrm>
            </p:grpSpPr>
            <p:sp>
              <p:nvSpPr>
                <p:cNvPr id="719" name=""/>
                <p:cNvSpPr/>
                <p:nvPr/>
              </p:nvSpPr>
              <p:spPr>
                <a:xfrm flipH="1" rot="5538600">
                  <a:off x="7758000" y="5462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 rot="5538600">
                  <a:off x="7888320" y="5533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 rot="5538600">
                  <a:off x="8024040" y="5473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rot="5538600">
                  <a:off x="7621560" y="5522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rot="5538600">
                  <a:off x="7491600" y="54514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rot="5538600">
                  <a:off x="7562160" y="5353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 rot="5538600">
                  <a:off x="7363800" y="53143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rot="5538600">
                  <a:off x="7164720" y="5271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7180920" y="4371480"/>
                <a:ext cx="866880" cy="381960"/>
                <a:chOff x="7180920" y="4371480"/>
                <a:chExt cx="866880" cy="381960"/>
              </a:xfrm>
            </p:grpSpPr>
            <p:sp>
              <p:nvSpPr>
                <p:cNvPr id="728" name=""/>
                <p:cNvSpPr/>
                <p:nvPr/>
              </p:nvSpPr>
              <p:spPr>
                <a:xfrm rot="4866600">
                  <a:off x="7750080" y="4460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4866600">
                  <a:off x="7871400" y="4373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4866600">
                  <a:off x="8013240" y="4418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4866600">
                  <a:off x="7607880" y="4414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4866600">
                  <a:off x="7486560" y="450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4866600">
                  <a:off x="7567920" y="459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4866600">
                  <a:off x="7375680" y="4653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4866600">
                  <a:off x="7182720" y="47188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6" name=""/>
            <p:cNvSpPr/>
            <p:nvPr/>
          </p:nvSpPr>
          <p:spPr>
            <a:xfrm flipH="1" rot="867000">
              <a:off x="4724280" y="320148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5334120" y="310500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8" name="" descr=""/>
          <p:cNvPicPr/>
          <p:nvPr/>
        </p:nvPicPr>
        <p:blipFill>
          <a:blip r:embed="rId6"/>
          <a:stretch/>
        </p:blipFill>
        <p:spPr>
          <a:xfrm>
            <a:off x="304920" y="990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1"/>
          <a:stretch/>
        </p:blipFill>
        <p:spPr>
          <a:xfrm>
            <a:off x="3505320" y="2209680"/>
            <a:ext cx="1123920" cy="160020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2"/>
          <a:stretch/>
        </p:blipFill>
        <p:spPr>
          <a:xfrm>
            <a:off x="228600" y="2286000"/>
            <a:ext cx="1419120" cy="137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7" dur="250" autoRev="1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4" dur="250" autoRev="1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971800" y="10476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749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753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757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762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767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771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775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779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4572000" y="16606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they Maya’s grandpar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785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786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790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794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00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802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601200">
            <a:off x="380520" y="2438280"/>
            <a:ext cx="106704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24280" y="1523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534200" y="2956680"/>
            <a:ext cx="4083840" cy="3749040"/>
            <a:chOff x="4534200" y="2956680"/>
            <a:chExt cx="4083840" cy="3749040"/>
          </a:xfrm>
        </p:grpSpPr>
        <p:grpSp>
          <p:nvGrpSpPr>
            <p:cNvPr id="806" name=""/>
            <p:cNvGrpSpPr/>
            <p:nvPr/>
          </p:nvGrpSpPr>
          <p:grpSpPr>
            <a:xfrm>
              <a:off x="4940280" y="3146400"/>
              <a:ext cx="3677760" cy="2539800"/>
              <a:chOff x="4940280" y="3146400"/>
              <a:chExt cx="3677760" cy="2539800"/>
            </a:xfrm>
          </p:grpSpPr>
          <p:sp>
            <p:nvSpPr>
              <p:cNvPr id="807" name=""/>
              <p:cNvSpPr/>
              <p:nvPr/>
            </p:nvSpPr>
            <p:spPr>
              <a:xfrm>
                <a:off x="4940280" y="432252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542280" y="467568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526080" y="314640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5056920" y="3217320"/>
                <a:ext cx="266040" cy="898560"/>
                <a:chOff x="5056920" y="3217320"/>
                <a:chExt cx="266040" cy="8985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123520" y="3484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056920" y="3350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123520" y="3217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056920" y="3617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123520" y="3750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24320" y="3684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56360" y="38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90920" y="4084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7903440" y="3497400"/>
                <a:ext cx="531360" cy="783720"/>
                <a:chOff x="7903440" y="3497400"/>
                <a:chExt cx="531360" cy="783720"/>
              </a:xfrm>
            </p:grpSpPr>
            <p:sp>
              <p:nvSpPr>
                <p:cNvPr id="820" name=""/>
                <p:cNvSpPr/>
                <p:nvPr/>
              </p:nvSpPr>
              <p:spPr>
                <a:xfrm flipH="1" rot="1320000">
                  <a:off x="8287200" y="3749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rot="1320000">
                  <a:off x="8398440" y="3650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rot="1320000">
                  <a:off x="8386560" y="3502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rot="1320000">
                  <a:off x="8297640" y="3898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rot="1320000">
                  <a:off x="8187120" y="3997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1320000">
                  <a:off x="8119800" y="3898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rot="1320000">
                  <a:off x="8015400" y="407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rot="1320000">
                  <a:off x="7907760" y="4244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5045400" y="4852440"/>
                <a:ext cx="829080" cy="451440"/>
                <a:chOff x="5045400" y="4852440"/>
                <a:chExt cx="829080" cy="451440"/>
              </a:xfrm>
            </p:grpSpPr>
            <p:sp>
              <p:nvSpPr>
                <p:cNvPr id="829" name=""/>
                <p:cNvSpPr/>
                <p:nvPr/>
              </p:nvSpPr>
              <p:spPr>
                <a:xfrm rot="18501600">
                  <a:off x="5260680" y="5024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18501600">
                  <a:off x="5114880" y="4993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8501600">
                  <a:off x="5051880" y="4858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18501600">
                  <a:off x="5324400" y="5159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18501600">
                  <a:off x="5470200" y="5189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8501600">
                  <a:off x="5481000" y="5068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rot="18501600">
                  <a:off x="5657400" y="5168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18501600">
                  <a:off x="5835960" y="5265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7164360" y="5271120"/>
                <a:ext cx="892800" cy="294840"/>
                <a:chOff x="7164360" y="5271120"/>
                <a:chExt cx="892800" cy="294840"/>
              </a:xfrm>
            </p:grpSpPr>
            <p:sp>
              <p:nvSpPr>
                <p:cNvPr id="838" name=""/>
                <p:cNvSpPr/>
                <p:nvPr/>
              </p:nvSpPr>
              <p:spPr>
                <a:xfrm flipH="1" rot="5538600">
                  <a:off x="7758000" y="5462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5538600">
                  <a:off x="7888320" y="5533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5538600">
                  <a:off x="8024040" y="5473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5538600">
                  <a:off x="7621560" y="5522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 rot="5538600">
                  <a:off x="7491600" y="54514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rot="5538600">
                  <a:off x="7562160" y="5353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rot="5538600">
                  <a:off x="7363800" y="53143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rot="5538600">
                  <a:off x="7164720" y="5271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7180920" y="4371480"/>
                <a:ext cx="866880" cy="381960"/>
                <a:chOff x="7180920" y="4371480"/>
                <a:chExt cx="866880" cy="381960"/>
              </a:xfrm>
            </p:grpSpPr>
            <p:sp>
              <p:nvSpPr>
                <p:cNvPr id="847" name=""/>
                <p:cNvSpPr/>
                <p:nvPr/>
              </p:nvSpPr>
              <p:spPr>
                <a:xfrm rot="4866600">
                  <a:off x="7750080" y="4460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4866600">
                  <a:off x="7871400" y="4373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4866600">
                  <a:off x="8013240" y="4418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4866600">
                  <a:off x="7607880" y="4414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4866600">
                  <a:off x="7486560" y="450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4866600">
                  <a:off x="7567920" y="459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4866600">
                  <a:off x="7375680" y="4653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4866600">
                  <a:off x="7182720" y="47188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5" name=""/>
            <p:cNvSpPr/>
            <p:nvPr/>
          </p:nvSpPr>
          <p:spPr>
            <a:xfrm flipH="1" rot="867000">
              <a:off x="4724280" y="320148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5"/>
            <a:stretch/>
          </p:blipFill>
          <p:spPr>
            <a:xfrm>
              <a:off x="5334120" y="310500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380880" y="9144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11"/>
          <a:stretch/>
        </p:blipFill>
        <p:spPr>
          <a:xfrm>
            <a:off x="228600" y="2009880"/>
            <a:ext cx="1495440" cy="157140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12"/>
          <a:stretch/>
        </p:blipFill>
        <p:spPr>
          <a:xfrm>
            <a:off x="3162240" y="2362320"/>
            <a:ext cx="1562040" cy="153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5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9" dur="25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0" dur="25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250" autoRev="1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6" dur="250" autoRev="1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7" dur="250" autoRev="1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3657600" y="2971800"/>
            <a:ext cx="685800" cy="83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601200">
            <a:off x="339480" y="2787480"/>
            <a:ext cx="761760" cy="9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601200">
            <a:off x="1106640" y="3835440"/>
            <a:ext cx="725400" cy="83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601200">
            <a:off x="3016080" y="3855960"/>
            <a:ext cx="76212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20620800">
            <a:off x="3352320" y="2133360"/>
            <a:ext cx="5335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601200">
            <a:off x="1023840" y="2209320"/>
            <a:ext cx="68580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3"/>
          <a:stretch/>
        </p:blipFill>
        <p:spPr>
          <a:xfrm>
            <a:off x="266760" y="1600200"/>
            <a:ext cx="4305240" cy="331488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4"/>
          <a:stretch/>
        </p:blipFill>
        <p:spPr>
          <a:xfrm>
            <a:off x="2971800" y="15228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873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874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875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879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883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888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893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897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901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724280" y="15238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We …… a big fami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907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908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912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16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9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5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92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94360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534200" y="2804040"/>
            <a:ext cx="4083840" cy="3749040"/>
            <a:chOff x="4534200" y="2804040"/>
            <a:chExt cx="4083840" cy="3749040"/>
          </a:xfrm>
        </p:grpSpPr>
        <p:grpSp>
          <p:nvGrpSpPr>
            <p:cNvPr id="926" name=""/>
            <p:cNvGrpSpPr/>
            <p:nvPr/>
          </p:nvGrpSpPr>
          <p:grpSpPr>
            <a:xfrm>
              <a:off x="4940280" y="2993760"/>
              <a:ext cx="3677760" cy="2539800"/>
              <a:chOff x="4940280" y="2993760"/>
              <a:chExt cx="3677760" cy="2539800"/>
            </a:xfrm>
          </p:grpSpPr>
          <p:sp>
            <p:nvSpPr>
              <p:cNvPr id="927" name=""/>
              <p:cNvSpPr/>
              <p:nvPr/>
            </p:nvSpPr>
            <p:spPr>
              <a:xfrm>
                <a:off x="4940280" y="416952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542280" y="452304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526080" y="299376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5056920" y="3064680"/>
                <a:ext cx="266040" cy="898200"/>
                <a:chOff x="5056920" y="3064680"/>
                <a:chExt cx="266040" cy="89820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123520" y="33314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056920" y="3197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123520" y="30646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056920" y="3464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123520" y="3598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224320" y="3531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256360" y="3731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290920" y="3931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7903440" y="3344760"/>
                <a:ext cx="531000" cy="783360"/>
                <a:chOff x="7903440" y="3344760"/>
                <a:chExt cx="531000" cy="783360"/>
              </a:xfrm>
            </p:grpSpPr>
            <p:sp>
              <p:nvSpPr>
                <p:cNvPr id="940" name=""/>
                <p:cNvSpPr/>
                <p:nvPr/>
              </p:nvSpPr>
              <p:spPr>
                <a:xfrm flipH="1" rot="1320000">
                  <a:off x="8287200" y="3596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rot="1320000">
                  <a:off x="8398080" y="34981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320000">
                  <a:off x="8386560" y="3349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320000">
                  <a:off x="8297640" y="3745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320000">
                  <a:off x="8187120" y="384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320000">
                  <a:off x="8119800" y="3745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320000">
                  <a:off x="8015400" y="3918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rot="1320000">
                  <a:off x="7907760" y="4091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5045400" y="4699440"/>
                <a:ext cx="829080" cy="451440"/>
                <a:chOff x="5045400" y="4699440"/>
                <a:chExt cx="829080" cy="451440"/>
              </a:xfrm>
            </p:grpSpPr>
            <p:sp>
              <p:nvSpPr>
                <p:cNvPr id="949" name=""/>
                <p:cNvSpPr/>
                <p:nvPr/>
              </p:nvSpPr>
              <p:spPr>
                <a:xfrm rot="18501600">
                  <a:off x="5260680" y="4871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rot="18501600">
                  <a:off x="5114880" y="4840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rot="18501600">
                  <a:off x="5051880" y="4705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rot="18501600">
                  <a:off x="5324400" y="5006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rot="18501600">
                  <a:off x="5470200" y="5036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rot="18501600">
                  <a:off x="5481000" y="4915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18501600">
                  <a:off x="5657400" y="5015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rot="18501600">
                  <a:off x="5835960" y="5112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7164360" y="5117760"/>
                <a:ext cx="892800" cy="294480"/>
                <a:chOff x="7164360" y="5117760"/>
                <a:chExt cx="892800" cy="294480"/>
              </a:xfrm>
            </p:grpSpPr>
            <p:sp>
              <p:nvSpPr>
                <p:cNvPr id="958" name=""/>
                <p:cNvSpPr/>
                <p:nvPr/>
              </p:nvSpPr>
              <p:spPr>
                <a:xfrm flipH="1" rot="5538600">
                  <a:off x="7758000" y="530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rot="5538600">
                  <a:off x="7888680" y="53798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rot="5538600">
                  <a:off x="8024040" y="5319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rot="5538600">
                  <a:off x="7621560" y="53690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rot="5538600">
                  <a:off x="7491600" y="5297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rot="5538600">
                  <a:off x="7562160" y="52002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rot="5538600">
                  <a:off x="7363800" y="5160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rot="5538600">
                  <a:off x="7164720" y="5118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7180920" y="4218480"/>
                <a:ext cx="866880" cy="381600"/>
                <a:chOff x="7180920" y="4218480"/>
                <a:chExt cx="866880" cy="381600"/>
              </a:xfrm>
            </p:grpSpPr>
            <p:sp>
              <p:nvSpPr>
                <p:cNvPr id="967" name=""/>
                <p:cNvSpPr/>
                <p:nvPr/>
              </p:nvSpPr>
              <p:spPr>
                <a:xfrm rot="4866600">
                  <a:off x="7750080" y="4307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4866600">
                  <a:off x="7871400" y="4220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4866600">
                  <a:off x="8013240" y="4265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4866600">
                  <a:off x="7607880" y="4261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rot="4866600">
                  <a:off x="7486560" y="434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rot="4866600">
                  <a:off x="7568280" y="443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rot="4866600">
                  <a:off x="7375680" y="4500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rot="4866600">
                  <a:off x="7182720" y="4565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"/>
            <p:cNvSpPr/>
            <p:nvPr/>
          </p:nvSpPr>
          <p:spPr>
            <a:xfrm flipH="1" rot="867000">
              <a:off x="4724280" y="304884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5334120" y="295272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7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8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9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10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11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grpSp>
        <p:nvGrpSpPr>
          <p:cNvPr id="982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983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806400" y="4411440"/>
            <a:ext cx="1889280" cy="1090800"/>
            <a:chOff x="806400" y="4411440"/>
            <a:chExt cx="1889280" cy="1090800"/>
          </a:xfrm>
        </p:grpSpPr>
        <p:sp>
          <p:nvSpPr>
            <p:cNvPr id="987" name=""/>
            <p:cNvSpPr/>
            <p:nvPr/>
          </p:nvSpPr>
          <p:spPr>
            <a:xfrm>
              <a:off x="806400" y="4724640"/>
              <a:ext cx="167616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68200">
              <a:off x="882000" y="4571640"/>
              <a:ext cx="1067040" cy="60984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392000">
              <a:off x="1567800" y="4586040"/>
              <a:ext cx="1022400" cy="744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7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8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50" autoRev="1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4" dur="250" autoRev="1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5" dur="250" autoRev="1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9:56:42Z</dcterms:created>
  <dc:creator>Gabi Sandru</dc:creator>
  <dc:description/>
  <dc:language>en-US</dc:language>
  <cp:lastModifiedBy>Gabi Sandru</cp:lastModifiedBy>
  <dcterms:modified xsi:type="dcterms:W3CDTF">2009-11-10T20:12:05Z</dcterms:modified>
  <cp:revision>4</cp:revision>
  <dc:subject>verb to be</dc:subject>
  <dc:title>Mister To be 2</dc:title>
</cp:coreProperties>
</file>